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2901-1344-43FC-AB4E-472421095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CCBC4-16D2-44D8-B583-AA17C86DA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A872E-C0C4-4937-9DD7-4A90C72AF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4F13-BBB6-4D06-B33D-55920A45E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63C3F-1A27-4B10-8E2B-9B1122FF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673C4-08B7-408A-9607-8958646E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3194B-DFCA-42CE-A2F5-19966BFFB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B2E9D-0747-4A85-978A-C72AD7CA9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B86B4-495D-4F05-8E36-F265A1CF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1838-2189-4FF4-9979-4E9E1B751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D63BC-AE1A-4E04-A54E-82CDB4FE7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4711-A391-4B5B-AE47-C8978B078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6053-323E-4547-A6DB-74FB12C9604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24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ite Characteristi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oute Centr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ute centres are often called </a:t>
            </a:r>
            <a:r>
              <a:rPr b="1" lang="en-US" sz="2800" spc="-1" strike="noStrike">
                <a:solidFill>
                  <a:srgbClr val="000000"/>
                </a:solidFill>
                <a:latin typeface="Calibri"/>
              </a:rPr>
              <a:t>Nodal Point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where where two routes meet has great potential for settl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these are formed by the meeting of two valleys, but settlement nowadays will grow where two main roads mee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UK, York is a good example of a route cent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mingham also enjoys a very good location, where many routes join up, and this is one of the reasons for its growth to become one of the largest cities in the U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ridging Point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st as water is very important for drinking, fishing, irrigation and navigation, so the ability to cross the rivers is also very importa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towns and cities have built up at points where it was easiest to cross a large river.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eter is one such example, crossing the river Ex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one of the best examples is Paris in Fran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iginal town was based on the tiny Ile dela Cite, which is an island in the middle of the River Sein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land meant they could build two small bridges across the river rather than one large on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nefit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 settlement also benefited from all the other advantages associated with being beside a river, as well as becoming a route centre due it being one of the only places to cross the ri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adays the island has been engulfed by the huge city that Paris has become, however it does still have many bridges going to it and is the point where the huge Notre Dame Cathedral is bui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Confluence Has 2 River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 as two valleys, or roads, make a nodal point for settlement growth, so do two rivers join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uch example is found in Khartoum in Sudan, where the Blue and the White Nile m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ituation</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situation</a:t>
            </a:r>
            <a:r>
              <a:rPr b="0" lang="en-US" sz="2200" spc="-1" strike="noStrike">
                <a:solidFill>
                  <a:srgbClr val="000000"/>
                </a:solidFill>
                <a:latin typeface="Calibri"/>
              </a:rPr>
              <a:t> of a settlement is the description of the settlement in relation to the other settlements and physical features around i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ituation of a settlement is the most important in determining whether it grows to become a large city or stays as a small town or villa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UK, Birmingham is an example of a city with an excellent situation.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located central to the country, with excellent links by road to the North and South to Lond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cities begin to fulfil different functions their importance can increase or decreas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situation plays an important part in deciding which of these will occ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3:23:16Z</dcterms:created>
  <dc:creator>Dell_02</dc:creator>
  <dc:description/>
  <dc:language>en-US</dc:language>
  <cp:lastModifiedBy>Dell_02</cp:lastModifiedBy>
  <dcterms:modified xsi:type="dcterms:W3CDTF">2011-01-25T23:36:58Z</dcterms:modified>
  <cp:revision>2</cp:revision>
  <dc:subject/>
  <dc:title>Site Characteristics</dc:title>
</cp:coreProperties>
</file>